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BCC-D749-4DC4-ACB7-6FCFA13F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A21-E12C-424D-8CCD-C7377BD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A11-17DE-4EC7-95E8-94A2F425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6F4-35BE-4748-9FD7-AD2226E0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455-EC0E-4845-9AA2-1F45BB2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40B-36FC-40DA-BD0D-CB5ADFC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0BC-95C1-425B-8AE4-DF3C0CFC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AD5-3175-4552-9B57-6927BB2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713-33F2-4FA1-9F7E-4969FDFF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947-A45D-44C8-A475-F759D853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666-A3CF-4666-BEC9-63BC29AA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6D0-95E2-4AD2-A4EE-9CF5031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2C35-1379-4954-ABFC-4CF18F5679F6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chsmith.com/jin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est_1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ow to get Jing  on your computer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ow to use J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1. How to down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mith.com/j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the download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hoose download for windows or 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You will see ”thanks for downloading”, if the automatical download has wor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not, you have to click the button ”click he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llow installing j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Sylinder 1"/>
          <p:cNvSpPr/>
          <p:nvPr/>
        </p:nvSpPr>
        <p:spPr>
          <a:xfrm>
            <a:off x="473040" y="404640"/>
            <a:ext cx="84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The Jing installation wizard will guide you through the se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You have to click”next” for several times till the pop up wind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”Jing is ready to go” appears -&gt; klick ”finish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you can see the Jing Sun on your deskt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You have to create a new account to use Jing whenever you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You need an email account and can choose a password to sig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you are ready to use  us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47" name="Ellipse 3"/>
          <p:cNvSpPr/>
          <p:nvPr/>
        </p:nvSpPr>
        <p:spPr>
          <a:xfrm>
            <a:off x="5435640" y="2781360"/>
            <a:ext cx="1297080" cy="71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Sylinder 2"/>
          <p:cNvSpPr/>
          <p:nvPr/>
        </p:nvSpPr>
        <p:spPr>
          <a:xfrm>
            <a:off x="684360" y="105264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A pop up window will open and  ask you, if you need a little more – that`s Jing pro BUT it`s not free, you have to pay for it, so klick the button ”Not intereste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2. How to use J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ing can make a screenshot or a screen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you wan`t to make a screenshot, scroll with your coursor over the yellow half circle on the top of your 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the cross on the left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 big moving cross appears on your 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and hold the left mouse button to choose the picture you want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you click the left mouse button again a small window opens and you can see 5 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The one in the left means capture image, if you click it, the picture you choosed before is on your computer and you can save it where ever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Now you can put it in every file you w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3. Screenca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Sylinder 2"/>
          <p:cNvSpPr/>
          <p:nvPr/>
        </p:nvSpPr>
        <p:spPr>
          <a:xfrm>
            <a:off x="347040" y="1484280"/>
            <a:ext cx="8913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If you want to take a screencast you have to scroll over the yel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sun again, choose the cross on the left and decide what part of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desktop you want to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click the second button from the left – capture 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The program asks you, which microphone you want to u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but it`s possible to do it without a microphone to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Decide what ever you want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The Recording will start immediatly – the maximum time is 5 minut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if you want to stop earlier, click the stop  button, choose a na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and save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wherever you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\\</a:t>
            </a:r>
            <a:r>
              <a:rPr b="0" lang="nb-N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koleserver\lærere\admin.skeiene\test_1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2:11:57Z</dcterms:created>
  <dc:creator>admin.skeiene</dc:creator>
  <dc:description/>
  <dc:language>en-US</dc:language>
  <cp:lastModifiedBy>admin.skeiene</cp:lastModifiedBy>
  <dcterms:modified xsi:type="dcterms:W3CDTF">2010-12-08T13:14:52Z</dcterms:modified>
  <cp:revision>7</cp:revision>
  <dc:subject/>
  <dc:title>How to get Jing  on your computer How to use Jing</dc:title>
</cp:coreProperties>
</file>